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20AB-5B2F-405D-95D1-B73B7E5E61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DB47-CCBF-478A-B9DE-B089B758312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B432-3819-4F35-8C18-B596DF6EFF4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D776-3ABC-4027-905C-6302D76BEEC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23FA-F35B-43CD-852F-C4B279F0125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98EE-2493-497D-BAA6-D0DCBEFCA0A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2F87-21E5-4D99-9290-BC1D8A7D6F6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62EF-74C8-478E-9EFA-3EAB639A6BC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35EF-7323-481E-8D71-12D144AC21F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4560-9939-4B30-AF33-15AA42F7393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43F0-A906-418B-AE8C-B2AA3FB198B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645F-0A8F-45ED-947A-A3CF1355A88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41D8-F3F6-4D66-AE3A-2115011DC4E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6402-70FE-46F8-A4BE-4A07A777C01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6F32-0AA1-4397-8378-2EBF5B348DC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C968-B7FB-48CC-9379-B785C49A0B3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B20D-E0F6-41D6-8A0C-9E6526382B6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527-FF3F-46B4-95C7-0F47BAEE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CCB-D966-4A15-B2C5-6E78BB76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FB5-6255-440B-A9E9-DA1BEE1D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345-04FF-4002-AEA3-639D2507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68B0-AE52-4B81-8FD2-D37B7326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FD0E-08B1-45B9-8803-6A39807E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623D-B83B-4FE5-8F9D-ACA07BF0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89C1-21AD-42AA-9EA5-308ADE0F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9D68-39BA-4C06-9FEF-53BABC44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394B-F9EB-4600-BAE7-DE4AA302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E587-57A2-424F-BE62-CB5150D4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640B-8E1A-43EE-9D6B-1D13F674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1195-3D7F-456E-8C98-E8D1390C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A778-7068-4FF8-A4CC-6ABA09BF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307D-2B3F-4C90-8D3E-4AB50442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61BF-9A2E-4E38-A86F-DE05A9BF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2F00-972C-459D-AE48-078C6DA7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9402-DAA7-4DBD-A555-232235A8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1C2-7561-4B80-98C5-DA9250A8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A74-B17C-4229-AF68-EDF2DBFB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1C35-7377-4DBE-A737-96C5954C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69F-8276-49BA-8779-B59FFDE8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A97-9EF3-4D66-AB71-96239F31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ECE6-C0B3-4B78-802E-AE7CC2F4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5B8B-B7C9-4BEA-8675-6B63A293241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7ABE-F040-463B-A534-60ACAD0FFF0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Times New Roman"/>
              </a:rPr>
              <a:t>Future Supervisory Architecture of the EU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uido RAVOET 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BF Secretary Genera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28</a:t>
            </a:r>
            <a:r>
              <a:rPr b="0" lang="en-GB" sz="25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EBF Associates’ Meeting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F6D9-8AFC-40D5-A567-98509B3A071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single rulebook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through binding technical standards and interpretative guideline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consistent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pplication of the rule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by supervisors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mmon supervisory cultur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llect relevan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icro-prudenti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inform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from national superviso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40DE-6D78-4FBF-89D6-15CCBDDE17F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Composition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mposition of the new ESA follows that of the current Lamfalussy Level 3 Committee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iat,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y General and Chair, and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oard where the Commission, the ESRC and the EFTA-EEA countries would be represented.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he resources will need to be substantially increased as compared to the current resources of the Level 3 Committees for the new Authorities to fulfil their rol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2139-9A71-4845-B80F-BC0B7641BEA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Functioning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Regular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eting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Binding technical standards made with qualified majority voting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Interpretative decisions: simple majority procedure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Budge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Authorities have their own budget, which is funded by the national authorities and/or industry. Financial and human resources need to be proportionate to the responsibilities of the Authorities and ensure independenc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, Commission and European Parliament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A8D5-528C-4B46-84ED-4D2E1CED749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 of Financial Supervisors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5cad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82A0-B63B-436A-BAC1-4BC66D900B1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operation between ESRC and ESFS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 and information shar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between the macro and micro pillars would be bind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egular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uropean Authorities would provide the ESRC with the relevant anonymous data on all financial institutions and market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n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d hoc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SRC would launch surveys on specific issues, channelled through the European Supervisory Authoriti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For macro-prudential information to feed into the micro-prudential supervisory considerations, representatives of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SRC might participate in colleges of supervisor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C44C-4129-4665-9B81-D7936FF4FE0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Commission proposed creating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,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 and a way for the two to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EBF broadly supports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 most of the proposal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Some important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details still need to be clarified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Legislative proposals are expected in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autumn 2009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8ABF-03F0-4642-8A0D-5736048B80C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5cad"/>
                </a:solidFill>
                <a:latin typeface="Times New Roman"/>
              </a:rPr>
              <a:t>Thank You For Your Attention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!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297E-0D91-4097-A640-C093BBAAA2C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Outline of Presenta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Background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ic Risk Council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 Of Financial Superviso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SRC-ESFS Cooper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Function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Conclusion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5102-69AB-4846-A05E-8119A5E0A54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ackgroun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Jacques de Larosière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mid-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Report delivered Feb-09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EBF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November 20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Comments &amp; proposals to de Larosière group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is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unication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on </a:t>
            </a:r>
            <a:r>
              <a:rPr b="0" i="1" lang="en-US" sz="2100" spc="-1" strike="noStrike">
                <a:solidFill>
                  <a:srgbClr val="0066cc"/>
                </a:solidFill>
                <a:latin typeface="Times New Roman"/>
              </a:rPr>
              <a:t>European Financial Supervi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Published on 27-May-09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legislative proposals follow in autumn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27F4-1F41-44F7-B726-D36B414B8CA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SRC-ESFS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F738-47FB-48BC-9F50-D0DBF99AD1F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SRC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role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is to: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provide early warnings of financial vulnerabilities, and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make recommendations on issues pertaining to macro-financial stability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t will fulfil its role by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ecting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sessing this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ssuing risk warning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aborating with IMF, FSB and third countries’ pee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9086-1500-41AB-842D-A14E6D2E3DF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Composi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ECB President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Vice-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non-euro-zone governor elected by ESRC memb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mb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vice-president of the ECB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National central banks: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3 Chairs of European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uropean Commiss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Observ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27 national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inance Ministries: Chair of the EFC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cc"/>
                </a:solidFill>
                <a:uFillTx/>
                <a:latin typeface="Times New Roman"/>
              </a:rPr>
              <a:t>Tot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34 members + 28 observ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4206-B10F-4286-935C-06C11E2BC82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Function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t least three meetings per yea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which all members and observers are entitled to attend and speak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only members may vote on the basis of a simple majority procedur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 and European Parliament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ole of the ECB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ECB provides administrative and logistic support as well as technical expertise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829C-17C9-4D28-A8F3-D822A3F626A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5FD0-7855-4AF7-9CFE-861BCD23128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 of 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Supervisor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Two level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National level: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ational supervisors and colleg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European level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: new Supervisory Authorities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(banking, insurance and securities)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National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remain responsible for direct day-to-day supervision of individual entiti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lleges of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for cross-border groups supervision: national supervisors +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a representative of the relevant European Supervisory Authority 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3:41Z</dcterms:created>
  <dc:creator>proskurovska</dc:creator>
  <dc:description/>
  <dc:language>en-US</dc:language>
  <cp:lastModifiedBy> </cp:lastModifiedBy>
  <dcterms:modified xsi:type="dcterms:W3CDTF">2009-06-22T10:13:09Z</dcterms:modified>
  <cp:revision>218</cp:revision>
  <dc:subject/>
  <dc:title>Economic and Banking Sector Situation in the Eastern European Countries</dc:title>
</cp:coreProperties>
</file>